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39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363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4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39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363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48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4280" y="0"/>
            <a:ext cx="9131760" cy="6845760"/>
            <a:chOff x="31428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70240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428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74916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Der  virtuelle Macintosh für offene Syst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95160" y="1409760"/>
            <a:ext cx="8610840" cy="4863960"/>
            <a:chOff x="695160" y="1409760"/>
            <a:chExt cx="8610840" cy="4863960"/>
          </a:xfrm>
        </p:grpSpPr>
        <p:sp>
          <p:nvSpPr>
            <p:cNvPr id="41" name=""/>
            <p:cNvSpPr txBox="1"/>
            <p:nvPr/>
          </p:nvSpPr>
          <p:spPr>
            <a:xfrm>
              <a:off x="695160" y="1409760"/>
              <a:ext cx="4657680" cy="486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intosh®-Anwendungen auf SPARC-Workstations unter Solaris 2.3 oder 2.4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it MAE 2.0 steht Ihnen die Benutzeroberfläche von System 7.1, einschließlich des Finders, zur Verfügung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afd00"/>
                </a:buClr>
                <a:buSzPct val="75000"/>
                <a:buFont typeface="Wingdings"/>
                <a:buChar char=""/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E 2.0 unterstützt AppleTalk , bietet Leistungs-verbesserungen, Mac TCP, Klang und vieles mehr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5572080" y="1411200"/>
              <a:ext cx="3733920" cy="39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1" i="1" lang="en-US" sz="20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Weitere Informationen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u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E 2.0 finden Sie in der MAE- Web-Seite unter dem URL: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://www.mae.apple.com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er über den MAE-FTP-Server unter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.support.apple.com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Verzeichnis /pub/mae). Eine Testversion von MAE 1.0 finden Sie auch auf der aktuellen CD SunSoft Catalyst CDWare™ for SPARC®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" name=""/>
          <p:cNvSpPr txBox="1"/>
          <p:nvPr/>
        </p:nvSpPr>
        <p:spPr>
          <a:xfrm>
            <a:off x="5591160" y="497196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Zum Kauf von MA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nden Sie sich an Ihren Apple-Händ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