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31760" cy="6845760"/>
            <a:chOff x="0" y="0"/>
            <a:chExt cx="9131760" cy="684576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3640" cy="5259600"/>
            </a:xfrm>
            <a:custGeom>
              <a:avLst/>
              <a:gdLst/>
              <a:ahLst/>
              <a:rect l="0" t="0" r="r" b="b"/>
              <a:pathLst>
                <a:path w="10399" h="14610">
                  <a:moveTo>
                    <a:pt x="8401" y="14606"/>
                  </a:moveTo>
                  <a:lnTo>
                    <a:pt x="10399" y="14610"/>
                  </a:lnTo>
                  <a:lnTo>
                    <a:pt x="10399" y="6336"/>
                  </a:lnTo>
                  <a:lnTo>
                    <a:pt x="0" y="0"/>
                  </a:lnTo>
                  <a:lnTo>
                    <a:pt x="886" y="661"/>
                  </a:lnTo>
                  <a:lnTo>
                    <a:pt x="1613" y="1230"/>
                  </a:lnTo>
                  <a:lnTo>
                    <a:pt x="2434" y="1944"/>
                  </a:lnTo>
                  <a:lnTo>
                    <a:pt x="3227" y="2698"/>
                  </a:lnTo>
                  <a:lnTo>
                    <a:pt x="4392" y="3981"/>
                  </a:lnTo>
                  <a:lnTo>
                    <a:pt x="5424" y="5344"/>
                  </a:lnTo>
                  <a:lnTo>
                    <a:pt x="6174" y="6535"/>
                  </a:lnTo>
                  <a:lnTo>
                    <a:pt x="6827" y="7766"/>
                  </a:lnTo>
                  <a:lnTo>
                    <a:pt x="7343" y="8996"/>
                  </a:lnTo>
                  <a:lnTo>
                    <a:pt x="7722" y="10121"/>
                  </a:lnTo>
                  <a:lnTo>
                    <a:pt x="7978" y="11073"/>
                  </a:lnTo>
                  <a:lnTo>
                    <a:pt x="8216" y="12251"/>
                  </a:lnTo>
                  <a:lnTo>
                    <a:pt x="8335" y="13283"/>
                  </a:lnTo>
                  <a:lnTo>
                    <a:pt x="8401" y="14606"/>
                  </a:lnTo>
                  <a:close/>
                </a:path>
              </a:pathLst>
            </a:custGeom>
            <a:gradFill rotWithShape="0">
              <a:gsLst>
                <a:gs pos="0">
                  <a:srgbClr val="0000cc"/>
                </a:gs>
                <a:gs pos="100000">
                  <a:srgbClr val="000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411040" cy="6845760"/>
            </a:xfrm>
            <a:custGeom>
              <a:avLst/>
              <a:gdLst/>
              <a:ahLst/>
              <a:rect l="0" t="0" r="r" b="b"/>
              <a:pathLst>
                <a:path fill="none" w="23364" h="19016">
                  <a:moveTo>
                    <a:pt x="23364" y="19016"/>
                  </a:moveTo>
                  <a:lnTo>
                    <a:pt x="23364" y="19016"/>
                  </a:lnTo>
                  <a:lnTo>
                    <a:pt x="23364" y="19016"/>
                  </a:lnTo>
                  <a:cubicBezTo>
                    <a:pt x="23364" y="15678"/>
                    <a:pt x="22284" y="12399"/>
                    <a:pt x="20234" y="9508"/>
                  </a:cubicBezTo>
                  <a:cubicBezTo>
                    <a:pt x="18183" y="6617"/>
                    <a:pt x="15234" y="4217"/>
                    <a:pt x="11682" y="2548"/>
                  </a:cubicBezTo>
                  <a:cubicBezTo>
                    <a:pt x="8130" y="879"/>
                    <a:pt x="4101" y="0"/>
                    <a:pt x="0" y="0"/>
                  </a:cubicBezTo>
                </a:path>
              </a:pathLst>
            </a:custGeom>
            <a:ln w="12600">
              <a:solidFill>
                <a:srgbClr val="3365fb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 txBox="1"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800" spc="-1" strike="noStrike">
                <a:solidFill>
                  <a:srgbClr val="f6bf69"/>
                </a:solidFill>
                <a:latin typeface="Arial"/>
                <a:ea typeface="Arial"/>
              </a:rPr>
              <a:t>SunPC</a:t>
            </a:r>
            <a:r>
              <a:rPr b="0" lang="en-US" sz="4800" spc="-1" strike="noStrike" baseline="30000">
                <a:solidFill>
                  <a:srgbClr val="f6bf69"/>
                </a:solidFill>
                <a:latin typeface="Arial"/>
                <a:ea typeface="Arial"/>
              </a:rPr>
              <a:t>™</a:t>
            </a:r>
            <a:br>
              <a:rPr sz="1800"/>
            </a:br>
            <a:r>
              <a:rPr b="0" i="1" lang="en-US" sz="2800" spc="-1" strike="noStrike">
                <a:solidFill>
                  <a:srgbClr val="f6bf69"/>
                </a:solidFill>
                <a:latin typeface="Arial"/>
                <a:ea typeface="Arial"/>
              </a:rPr>
              <a:t>Exécute vos applications MS-DOS sur SPARC</a:t>
            </a:r>
            <a:r>
              <a:rPr b="0" i="1" lang="en-US" sz="2400" spc="-1" strike="noStrike">
                <a:solidFill>
                  <a:srgbClr val="f6bf69"/>
                </a:solidFill>
                <a:latin typeface="Arial"/>
                <a:ea typeface="Arial"/>
              </a:rPr>
              <a:t>®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"/>
          <p:cNvSpPr txBox="1"/>
          <p:nvPr/>
        </p:nvSpPr>
        <p:spPr>
          <a:xfrm>
            <a:off x="304920" y="1752480"/>
            <a:ext cx="462276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spcAft>
                <a:spcPts val="601"/>
              </a:spcAft>
              <a:buClr>
                <a:srgbClr val="fafd00"/>
              </a:buClr>
              <a:buSzPct val="75000"/>
              <a:buFont typeface="Wingding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nPC constitue, pour les utilisateurs SPARC, la solution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optimal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pour exécuter les applications MS-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 plus, SunPC accepte plus d'applications Microsoft Windows que n'en comporte la liste de logiciels Wabi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™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certifié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nPC 4.1 accepte les protocoles réseau pour PC les plus répandus, notamment TCP/I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"/>
          <p:cNvSpPr txBox="1"/>
          <p:nvPr/>
        </p:nvSpPr>
        <p:spPr>
          <a:xfrm>
            <a:off x="5105520" y="2971800"/>
            <a:ext cx="3930480" cy="25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i="1" lang="en-US" sz="20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Pour plus d'informations 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r  appelez le 512/434-1511 et composez le 1. Vous pouvez aussi accéder à notre site World Wide Web au 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www.sun.com/sunsoft/Products/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C-Integration-produc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5105520" y="4998960"/>
            <a:ext cx="3657600" cy="185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i="1" lang="en-US" sz="20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Pour acheter</a:t>
            </a:r>
            <a:r>
              <a:rPr b="0" i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SunPC, appelez le</a:t>
            </a:r>
            <a:br>
              <a:rPr sz="2000"/>
            </a:br>
            <a:r>
              <a:rPr b="0" i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12/434-1511 et composez le 2. Vous pouvez aussi contacter votre revendeur Sun loca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5162400" y="1252440"/>
            <a:ext cx="3695760" cy="161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i="1" lang="en-US" sz="20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REMARQUE </a:t>
            </a:r>
            <a:r>
              <a:rPr b="0" i="1" lang="en-US" sz="2000" spc="-1" strike="noStrike">
                <a:solidFill>
                  <a:srgbClr val="f6bf69"/>
                </a:solidFill>
                <a:latin typeface="Times New Roman"/>
                <a:ea typeface="Times New Roman"/>
              </a:rPr>
              <a:t>: disponible en anglais uniquement, SunPC accepte toutefois les versions localisées de MS-DOS, Microsoft Windows et des application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