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831755"/>
        <c:axId val="93001131"/>
      </c:barChart>
      <c:catAx>
        <c:axId val="808317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001131"/>
        <c:crosses val="autoZero"/>
        <c:auto val="1"/>
        <c:lblAlgn val="ctr"/>
        <c:lblOffset val="100"/>
        <c:noMultiLvlLbl val="0"/>
      </c:catAx>
      <c:valAx>
        <c:axId val="930011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317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29F9-E2AE-4F91-B5D0-B294BF3FB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6360-5CE9-4D11-AB8C-90790249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79A6-590D-4C24-B5E0-3EF85D6E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34F0-1030-466C-BD3E-96D17A39E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FEAD-3B85-4CAF-B256-60CDE580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2762-F5C0-46FD-A318-17D2D209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1F38-9643-4B4B-9B76-3E77B515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59DD-B9FC-4AB4-9729-E0ED7A95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4A17-AEB9-4B78-BCBA-DEC4D69E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5C3B-8355-45CA-AB38-A05F8DFC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B43A-3BDF-4FBE-B37F-7C7B7769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50FF-5F6A-4205-BC2D-8A4CA08E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79A0A-8B18-4254-8D83-ABF3FA9C90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