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77932"/>
        <c:axId val="53840303"/>
      </c:barChart>
      <c:catAx>
        <c:axId val="872779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40303"/>
        <c:crosses val="autoZero"/>
        <c:auto val="1"/>
        <c:lblAlgn val="ctr"/>
        <c:lblOffset val="100"/>
        <c:noMultiLvlLbl val="0"/>
      </c:catAx>
      <c:valAx>
        <c:axId val="538403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779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781-478D-4CAC-BF0F-63169DD7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D76-CD3D-47EB-A390-025AEF74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6B6-E262-48C1-8ED9-76724288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3D1-76C0-4EFE-B20C-614C52A7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18E-9C99-4267-8FA0-2A4329AB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A971-85D2-421E-8B1F-D68125BE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922-600E-4877-8E8A-C8298685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794-5D5F-4BD4-B771-3E383836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600-E107-45D5-A60A-8199A600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7B7A-1193-46BA-B8AA-2B15CF4C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9D9D-6A86-4B46-BD15-0171FB17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D1F7-2EA8-4BC8-95CE-9A253695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27810-F73C-458D-9D1A-0E11BC87DF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