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18599"/>
        <c:axId val="22897621"/>
      </c:barChart>
      <c:catAx>
        <c:axId val="39418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97621"/>
        <c:crosses val="autoZero"/>
        <c:auto val="1"/>
        <c:lblAlgn val="ctr"/>
        <c:lblOffset val="100"/>
        <c:noMultiLvlLbl val="0"/>
      </c:catAx>
      <c:valAx>
        <c:axId val="22897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18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064-018F-496F-84E7-8E386BAE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757-D629-4A20-A4E4-585FA157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BE6-031D-4ECE-9D24-CB6DF60F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0B8-9674-4A9A-AA16-4A8C6811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964-6B29-4DE6-9943-2B4B48F4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7F8-F43C-47B2-8C4C-F85DA03E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DE0-3B53-440C-9D4D-ECB1BB8C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845-AAF2-47B8-BFAE-C9A16F48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0D2-B8C9-401B-A3D4-15965AA4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C07-B70E-490E-82B4-7465BB5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414-611A-467C-B309-34BE23E0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9D9-70F3-4184-BF55-D6093281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C5C88-2E32-45AA-9A2E-A680793D59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