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1484577"/>
        <c:axId val="40269804"/>
      </c:barChart>
      <c:catAx>
        <c:axId val="1148457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269804"/>
        <c:crosses val="autoZero"/>
        <c:auto val="1"/>
        <c:lblAlgn val="ctr"/>
        <c:lblOffset val="100"/>
        <c:noMultiLvlLbl val="0"/>
      </c:catAx>
      <c:valAx>
        <c:axId val="4026980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48457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0A02-AC53-49AC-BC03-689AA1B0B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4F9B-E7E6-4556-83E9-A9EBBFC36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3B02-017E-4C52-B41B-D494945A1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009C-8802-4390-9F11-4096CB46C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E41C-AA41-41E5-8F73-DB705F1E3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4A4C-E5B2-45F0-8DD6-46E85CBF7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4038-6E0C-4CF8-8CD6-8BB18C5FC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5A35-AB5E-4373-8794-0F34A7ED8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57D1-4EB6-468E-A5BF-C6418F70E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DA2F-8869-411F-B968-691C84C60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A8C6-BFC1-4825-A121-528FC2027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E98D-7CF5-4604-AC46-60813E30E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D8EEE6-29F0-4204-8DEC-FF70881CAC7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