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29532"/>
        <c:axId val="99800674"/>
      </c:barChart>
      <c:catAx>
        <c:axId val="41829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00674"/>
        <c:crosses val="autoZero"/>
        <c:auto val="1"/>
        <c:lblAlgn val="ctr"/>
        <c:lblOffset val="100"/>
        <c:noMultiLvlLbl val="0"/>
      </c:catAx>
      <c:valAx>
        <c:axId val="99800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29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E03-5FE2-465E-9E3F-AB662AEC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FD7-9A8D-44D7-8E68-60A7074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66B-A70D-49E0-91D6-1B3B05AA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784-6CE1-427C-AC6D-09191260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6FF-0EDA-43B2-BDC0-FA7AA0C1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D3E1-0577-4988-BFBF-D7B1DA7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245-64DF-4425-B33F-EB72A48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0F8-3120-4B29-AA49-ABADD7F5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A88-0E54-41C4-BD8C-32430C4C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98B-2F5F-484A-AB2C-5522A6F9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6A7-0ACE-4705-BE5F-242BCF3F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6DC-7A36-47B8-8E50-D9278D0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F2E0C-6F9E-4059-8826-D019A3472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