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5420"/>
        <c:axId val="36595148"/>
      </c:barChart>
      <c:catAx>
        <c:axId val="9385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5148"/>
        <c:crosses val="autoZero"/>
        <c:auto val="1"/>
        <c:lblAlgn val="ctr"/>
        <c:lblOffset val="100"/>
        <c:noMultiLvlLbl val="0"/>
      </c:catAx>
      <c:valAx>
        <c:axId val="36595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B05-0955-4C31-B8D5-8FE9E9AA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3B5-A781-4417-B707-6B37B77A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E90-B48D-4BF2-81F9-031230F1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CDC-4142-4A76-A034-CE6E03AC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740-F518-4070-A908-15A2E5E9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7DA-3F71-4A2D-B102-D28DD18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B36-9B40-48CC-9B40-B61864E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81F-D616-4F6A-BCBD-54DDFAB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453-5E8E-4793-A671-0686916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98B-4D7D-4F87-AB07-EE54F76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266-D518-4BB5-A8B9-AAA1232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9B5-66AD-4005-89CA-98F3714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14177-0184-41C8-B876-BBC9B22B21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