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53242"/>
        <c:axId val="66400441"/>
      </c:barChart>
      <c:catAx>
        <c:axId val="36853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0441"/>
        <c:crosses val="autoZero"/>
        <c:auto val="1"/>
        <c:lblAlgn val="ctr"/>
        <c:lblOffset val="100"/>
        <c:noMultiLvlLbl val="0"/>
      </c:catAx>
      <c:valAx>
        <c:axId val="66400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53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BBD-E2F4-43A6-A643-34C825A9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0AE-CCBF-4905-A19C-8AC3ECF6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52F-A5F6-4D72-9B8A-D9FE2B92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CF7-0A43-4E29-9C17-7D745C87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4A1-B84F-4304-A91E-DCBA0E7C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640-AB84-4722-9DEC-19A53986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DBF-D577-4CDE-8271-A920AD1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340-6FE4-422C-ADD7-3A73DBFC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989-6B47-40A4-8FB7-FF370C83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AB5-09B6-46BA-B1F2-8C35310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54B-31B3-40DE-B046-921A27E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141-FED2-4E44-A3C3-9488519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ECA95-8553-4351-B6B9-5456C11CEF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