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22330"/>
        <c:axId val="17301399"/>
      </c:barChart>
      <c:catAx>
        <c:axId val="46022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01399"/>
        <c:crosses val="autoZero"/>
        <c:auto val="1"/>
        <c:lblAlgn val="ctr"/>
        <c:lblOffset val="100"/>
        <c:noMultiLvlLbl val="0"/>
      </c:catAx>
      <c:valAx>
        <c:axId val="17301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22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92E6-159C-46E8-937F-4B23E332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DD6C-E33D-40F3-AD86-5E280CA6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5FDB-750E-4808-9AE2-69ACB686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321-3A95-4624-9748-AA0744A0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243-6278-492A-91D9-0063614C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171-6C20-4FDC-BA2D-73209ADF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293-BA27-4F73-8E65-9D295627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081C-FF50-4C2A-A737-1AF9526E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5E4-9B09-483B-B0BC-8210F2DA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1BC2-C550-4C9B-A36D-FDA3F4DF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CC10-7572-4EF2-8C87-46EAF2E4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AC3-FD07-4E7F-9225-6BFF953D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B1BDB-8EE9-4BD2-9790-6A05ED5897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