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34271"/>
        <c:axId val="85596332"/>
      </c:barChart>
      <c:catAx>
        <c:axId val="23434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6332"/>
        <c:crosses val="autoZero"/>
        <c:auto val="1"/>
        <c:lblAlgn val="ctr"/>
        <c:lblOffset val="100"/>
        <c:noMultiLvlLbl val="0"/>
      </c:catAx>
      <c:valAx>
        <c:axId val="8559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4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8D4-DF54-43C9-9875-1E1FB71F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D10-B191-4E9F-A12F-9003675E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823-DA98-4B43-A11A-609A0D15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1DB-B07D-4BD4-966D-227EA49D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261-6040-4742-9F48-B4C35B5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98B-4EA6-44EA-8FA7-24E0A27A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B54-9024-4C88-A240-816BC90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C27-1926-4E02-A3FC-4562D1D3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85A-AA67-4088-900C-82CCA1A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B5E-B571-45ED-B0B9-B8FD33C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AE3-FA73-4C3A-AD29-28D64199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942-DC53-429F-84A0-5D0567BA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ED21F-BD34-4BF6-A3E7-BC04526AFD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