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479104"/>
        <c:axId val="92683313"/>
      </c:barChart>
      <c:catAx>
        <c:axId val="324791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683313"/>
        <c:crosses val="autoZero"/>
        <c:auto val="1"/>
        <c:lblAlgn val="ctr"/>
        <c:lblOffset val="100"/>
        <c:noMultiLvlLbl val="0"/>
      </c:catAx>
      <c:valAx>
        <c:axId val="926833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4791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F030-21B3-4410-8010-EE3DB72EB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F815-3107-4E19-82C2-003C163A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F663-17CB-49EA-9AB3-0519798D1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19A0-61B7-45FF-B4DC-6E2F00D24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87B6-1648-485A-845F-606D8111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57A1-CBBA-4527-9691-942EC400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8072-52B7-40CB-A07C-E7793356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11A6-944C-4359-9070-98A97469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0D5A-F04A-4761-86D6-3956AC41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F452-715B-4934-BC65-9DED6142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99D6-4CB3-4597-A6C3-8B1F59F0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CEAA-01FA-4A68-92CA-672CEB7A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7CC88A-3A9E-4AA0-BD79-81AB8A2371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