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469"/>
        <c:axId val="54447147"/>
      </c:barChart>
      <c:catAx>
        <c:axId val="597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47147"/>
        <c:crosses val="autoZero"/>
        <c:auto val="1"/>
        <c:lblAlgn val="ctr"/>
        <c:lblOffset val="100"/>
        <c:noMultiLvlLbl val="0"/>
      </c:catAx>
      <c:valAx>
        <c:axId val="54447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532-602C-4D5A-AB62-DA53A4D2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7F3-8447-40B9-9606-198B41D4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1EE-7836-4C8B-BEE0-7952BC53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A9C-4FE1-4079-B452-89E874FC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422-1DE3-48CA-AED0-4C68D2E2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920-B122-4C6B-A50C-72E645BB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674-595B-4D39-B6E6-CA2F5550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E1D-F61B-47CE-9CEE-DD8B34F2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25F-9FC7-4ACF-98B1-EB644154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76C-8223-4E81-89EA-E788EF6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AD1-0C8B-4440-95F7-CCFDF567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724-0753-43EE-83C5-2266849D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AE0CF-F7D5-499C-9D40-18D3892A2D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