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49444"/>
        <c:axId val="29102685"/>
      </c:barChart>
      <c:catAx>
        <c:axId val="36649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2685"/>
        <c:crosses val="autoZero"/>
        <c:auto val="1"/>
        <c:lblAlgn val="ctr"/>
        <c:lblOffset val="100"/>
        <c:noMultiLvlLbl val="0"/>
      </c:catAx>
      <c:valAx>
        <c:axId val="29102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49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3191-3239-4074-91C3-23430A2B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337-001C-4887-999F-B783264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B25-F1FF-4CF1-83BC-4CF8F5D6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C67-14E6-44A9-99A4-9CA57921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514-F93A-406D-BA62-7EC8748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447-1F57-4F21-88FB-EFCFEF47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638-F8FB-4C5D-A3AD-A3AB1980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122-6B4A-4A9D-93AE-F3F9FFA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547-24EE-4014-8A45-A2B30FAB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61B4-5499-4942-A941-605B8FE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F81-6A63-4332-AE59-040384D5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1FB-B7E8-4436-86F1-8D5944A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4A7A3-377E-450A-AAD3-0111D88C74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