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95033"/>
        <c:axId val="38020521"/>
      </c:barChart>
      <c:catAx>
        <c:axId val="32995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20521"/>
        <c:crosses val="autoZero"/>
        <c:auto val="1"/>
        <c:lblAlgn val="ctr"/>
        <c:lblOffset val="100"/>
        <c:noMultiLvlLbl val="0"/>
      </c:catAx>
      <c:valAx>
        <c:axId val="38020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95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E5E-DAA0-43D7-8AB3-D747A571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74F-48A1-4CF3-9514-83EE681E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F76-4880-4629-BECF-6A30DE04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AC6-3C2C-4EED-A5DA-D7F3CB8C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15B-2FE0-41C2-9ECF-5CE32982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752-889B-404D-921D-3A510025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98E-3286-4179-A15F-A0E2C6B7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FD0-45CE-4B6B-9609-76924062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194-216A-45DC-979E-8867924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A94-4E6B-4CEC-972D-5D8EA85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9A0-503A-445F-89B4-F45650BD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FAB5-01A7-4A83-8AE4-8865C6AF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972D3-EC3B-45B2-84E6-1124074B20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