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294963"/>
        <c:axId val="52337748"/>
      </c:barChart>
      <c:catAx>
        <c:axId val="692949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37748"/>
        <c:crosses val="autoZero"/>
        <c:auto val="1"/>
        <c:lblAlgn val="ctr"/>
        <c:lblOffset val="100"/>
        <c:noMultiLvlLbl val="0"/>
      </c:catAx>
      <c:valAx>
        <c:axId val="523377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949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18C0-B227-424C-ACA1-4A605C7E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2077-74FF-4CB9-8EB1-088A3776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13BE-7069-436D-BC3C-3A856BC5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716-A830-4899-8956-159B7374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996-157E-488E-A5F2-607D6C0B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C4AC-3C86-4C6D-94B1-BB6DED9F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55E-B27F-4EC7-9109-9081B164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A2C-CDCC-46D4-9561-62707089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17E4-BB42-4809-BFBB-42C25A35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BAD-3DB7-403A-A7C0-5676A99D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BCCC-39DD-4BC7-BEC6-0B1B713E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2650-CFD6-4413-B99F-2E3BAB3F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146C4-1FD9-40A0-88D0-F43C3D8865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