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14654"/>
        <c:axId val="39548432"/>
      </c:barChart>
      <c:catAx>
        <c:axId val="62314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48432"/>
        <c:crosses val="autoZero"/>
        <c:auto val="1"/>
        <c:lblAlgn val="ctr"/>
        <c:lblOffset val="100"/>
        <c:noMultiLvlLbl val="0"/>
      </c:catAx>
      <c:valAx>
        <c:axId val="39548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14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8F2-0D13-4B10-BF49-AB19F616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AB2-DF36-4CF5-A32F-64B2C6B8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A25-237C-4BF2-A26C-706C0DD0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E82-47B5-4ED9-AF5E-052042BF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B91-F8A0-4EC6-A3BF-083CDE7B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386-5F6F-4AE3-8006-E6F45C41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989-7B6B-4EBB-A248-88ED836D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AA4-FFD1-414C-8772-999F7AF1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B71-90CD-41F5-A7AE-688A83F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BC8-37A4-4FBF-AC7C-918F0B5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09E-B1FD-4E0C-B293-0AABFD7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B30-03EE-453B-907F-5155F591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50CBE-CF81-4FA1-A29C-F32A3DDBF9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