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88330"/>
        <c:axId val="57795821"/>
      </c:barChart>
      <c:catAx>
        <c:axId val="32888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5821"/>
        <c:crosses val="autoZero"/>
        <c:auto val="1"/>
        <c:lblAlgn val="ctr"/>
        <c:lblOffset val="100"/>
        <c:noMultiLvlLbl val="0"/>
      </c:catAx>
      <c:valAx>
        <c:axId val="57795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88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0C7-04DB-4706-891F-DC6772E2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3D7-D207-4250-81A9-B672776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79E-ADAE-401E-B9A0-0A063735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E44-E7F3-467A-8124-6791050E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D7B-29D6-4412-91AD-082F93F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8C3-8FAC-4373-BA8D-DCE6384A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870-B7CF-4C3F-8A3A-06E0972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ED9-FB2B-4017-BACB-F9A20E16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188-3FA3-4B60-8ED3-3096516A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588-1427-4C0B-8086-673005C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28A-99CF-4020-A157-A6BFB05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E90-269E-4E62-B965-4CD67E2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A5D9D-2A9B-46BE-A801-DC579EE76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