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38559"/>
        <c:axId val="26569357"/>
      </c:barChart>
      <c:catAx>
        <c:axId val="13438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69357"/>
        <c:crosses val="autoZero"/>
        <c:auto val="1"/>
        <c:lblAlgn val="ctr"/>
        <c:lblOffset val="100"/>
        <c:noMultiLvlLbl val="0"/>
      </c:catAx>
      <c:valAx>
        <c:axId val="26569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38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F6A-5927-4D3F-9D42-2A090E6A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79E-908F-4A5B-B448-04DECE4A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358-94F0-4495-A938-151B882C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5DC-0B46-4EE2-B474-A5ED8531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561-D64A-4B98-929C-6305A30B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EAD-739D-45A0-8842-655BFEE8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2EF-1928-48B1-A48D-F001AA36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E04-2A6E-48FF-8DE9-062F23CA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49D-7C44-4D61-BAB7-0D83C5E6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454-F450-41A5-B5AC-C97B9CD5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95E-2C5F-412C-9AB1-8552E27B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BE8-CE09-48FF-BE3B-2A78C7E8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04D23-39E1-4513-9AA8-C911B348BF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