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628955"/>
        <c:axId val="75008155"/>
      </c:barChart>
      <c:catAx>
        <c:axId val="376289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08155"/>
        <c:crosses val="autoZero"/>
        <c:auto val="1"/>
        <c:lblAlgn val="ctr"/>
        <c:lblOffset val="100"/>
        <c:noMultiLvlLbl val="0"/>
      </c:catAx>
      <c:valAx>
        <c:axId val="750081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6289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7CBE-7E08-4126-A682-60E6D2F97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315C-BA1F-4F2E-BA6D-D60C5AAA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46DD-8B10-41B0-8C81-0A591236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6792-7A47-46CE-BF1E-15A49FF69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E1DB-EFAC-420B-8691-A2F548A7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A0A6-A055-4455-BFA2-6AA7E9A1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D551-6190-466B-B921-DCFCCD6F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F268-6727-4A7F-8040-058E94BE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4988-19F1-499E-ABCF-A3BE7EAA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CAAF-8453-4038-92A1-C4CA7663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DD3F-A23A-4A32-9185-B37CA2D9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0CAA-0B3A-4D51-9A05-7C586632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D0FE9-7196-44FF-A39C-4E64E2D156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