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98269"/>
        <c:axId val="82731398"/>
      </c:barChart>
      <c:catAx>
        <c:axId val="93698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31398"/>
        <c:crosses val="autoZero"/>
        <c:auto val="1"/>
        <c:lblAlgn val="ctr"/>
        <c:lblOffset val="100"/>
        <c:noMultiLvlLbl val="0"/>
      </c:catAx>
      <c:valAx>
        <c:axId val="82731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98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EE5-5E5B-4B40-A4E3-4AF6173B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7C6-092B-4289-A89A-6177F2AA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E8D-49BA-4CA6-BD5F-F2431460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35A-7561-4256-8762-83D93997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9BA-B0E3-4AEE-8449-24176D77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4F0-2313-45B8-B4CE-CD734AE7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FF5-B466-447A-88A0-8B103AFD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55D-57E8-48BE-951B-639DC244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BFB-974A-412A-9D83-3F402893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8D3-0BFE-46E4-84EB-55EECC0A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1DD-C052-420E-A339-12E36403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9C8-17A7-4075-95B1-0991863D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F5340-DBD2-4A58-92DA-0E30EEEFCB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