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109856"/>
        <c:axId val="17650066"/>
      </c:barChart>
      <c:catAx>
        <c:axId val="221098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650066"/>
        <c:crosses val="autoZero"/>
        <c:auto val="1"/>
        <c:lblAlgn val="ctr"/>
        <c:lblOffset val="100"/>
        <c:noMultiLvlLbl val="0"/>
      </c:catAx>
      <c:valAx>
        <c:axId val="176500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1098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C4CB-5EB2-4A6C-A3D7-7176DEA97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0169-39F3-489F-B28D-CF10AE60A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0B56-7EE9-418A-8C8A-2DD601ED9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D75F-6608-4048-8BFB-EEF1C1D5C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430F-EAC8-4A1C-9A4D-E443E8FD7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ECF5-DD08-487C-B515-73D02EBC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A24F-A92E-429D-A4AE-0DEC82618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C699-D501-4711-AE15-AC1DD46BC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577D-169B-4E65-B8F1-A2AF962ED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BD64-B0ED-4138-AEC3-764C526B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619D-29F4-4CAA-BC10-232636BB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DF0E-DF60-4BF7-A9CF-0520B768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B900F8-6A83-4A73-B73C-375EDCA6AA9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